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F1DC0C-F4C8-4469-9130-48AC5D441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2BD639-DB6E-4F6C-890D-171B03B40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CEB7-BCFE-460C-90FA-CC2BCA6DF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C041-DDD4-4F29-93A6-14016375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BE0D1-D01F-4D53-9703-189D3752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B82C15-A7CA-4A8C-8CBE-89F03E9D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1F0891-5219-4A7C-9DD7-59AE241B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F7B168-AE2C-47C6-BC05-3A35A61C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36923-D4F1-4F36-BF5F-97C79EE2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464201-2E5E-4A2D-A0E8-FEC1E581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E9093E-A965-4097-BB1C-1E3692E3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D35F5-DE44-4A6B-9AD0-AA238CF87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B7760-2DEA-484A-BC23-16D61BB5A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CE33-CA9E-4171-954D-E37021600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00BE-8125-4D0A-AAD6-F45383B4A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5615-75CE-49DE-B5B0-EA7F0C5B7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7B8D2-B425-409D-B3F6-EBA40677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7E5B-C1A6-4425-9E19-5B5D957A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D268-A2F6-459B-9F28-8CC2BD9E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5CB9-9E59-4703-9D0F-32F02209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F4E8-633A-4C9E-B04E-6E525401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09EE-2572-40AC-99AB-1FFE8BAB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651D-4EFB-470A-93CE-7F2B11F4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5082-1AD7-480B-B54B-0B6A05CC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E435-82F2-4335-9C57-5C819FBF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E5BA-8B37-4907-A5B8-4B9A53E1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4CC5-315D-417E-A5DD-F439240F9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72E7-A767-4688-9632-349620BF0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CA002-D3AB-45F7-B620-E00E88FD6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D436A-0F03-4CF3-9BAE-901E608C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052E9-219B-4040-9341-2F0EAE11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AE592-0C78-46A2-9E31-51113766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FC0CD-A1F0-4A93-8F08-7BD68846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15A6-BC4C-41D8-9557-64E26573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B2707-1F86-4AA9-BC09-8212E771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6EBA0-8289-4350-A371-C82DF758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C2CA3-4220-475C-9A95-92A5A658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A2824-B06F-4A36-ACBD-16C9AD46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3DA01-A73B-4C28-A718-03A10B41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63F77-1179-436E-B43F-5BB492ACF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348ED-6FFC-42B8-9AAA-C4E23A922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A7959-B786-4EE9-9C03-A566C6D3A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7D2A5-7E38-4DC1-99D2-6F91D717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D5763-BBB8-46F9-97E2-E4DC47AD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95EA-AC20-4D37-B2F6-E25ABE41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C1530-94E6-464F-B063-26140B76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C228C-3D68-4D4C-BAC8-506451B2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942BA-43AC-4779-A447-FC63D236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82BB3-C85A-4539-B06F-2056E666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F4506-021D-4B4C-A2AC-43A0A70C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AE14C-6696-4988-996D-66998107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3EC2A-F2DE-4BBB-A358-85003183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B1AF4-B932-4222-A3C3-80240A641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63CC9-88C2-4BD7-997D-7688D0FE3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98B84-8DC5-4256-8B8D-87830C17E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AB0C-D679-461A-91BB-3AC6B260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1202E-25F9-40A7-886D-A5DA4D11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04747-DF9F-4767-8B95-5184D1AF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371B2-9088-460A-986F-1DDA1ACC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7D981-BA4C-45D5-8614-B0773D41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96219-5890-44F7-B53D-EF4D582B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1E69B-176A-4400-9503-D820391B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F9E67-1430-4DC4-937A-A7BF5991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2E899-191D-482C-9198-EC3B8A92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0BEEA-F168-4130-ACF9-7D272866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32A0E-8773-4E76-81F7-3D86B50B4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F90D-48F7-463F-8C3C-1B863C82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F5103-6530-449B-A298-55D92F428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5673D-F4DD-4C7E-A54D-D6B65CF7B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FC985-3593-4C8E-97B0-082672BF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D3D3B-4719-4560-A42E-42BA8287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B8017-AA8D-4402-B36F-4034519B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5C8A8-857D-4E7F-AB1A-99A4B885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A191F-9792-4FA0-899F-4AE3BC34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54416-2502-4E3F-94F3-5C9C9793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900F4-9930-4C25-9EE7-D257445F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ACEA0-BE6E-4789-A6A4-957DE71A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4B05-9B25-447F-855F-2BCBB90D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C456D-64C2-41E4-860E-A69F1E36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488FE-0880-43C2-8578-63E31D779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EA263-15B6-495B-A8D5-28BBD96C5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AB514-D508-4767-AEDC-DF0CC7FA2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3AEA3-D40B-4AB3-964B-1B55804D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D590B-5E4A-4EA0-B452-E7DCCB7F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8EA0B-C85A-4639-807E-F18DA068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0031C-3E25-43FF-8BEE-346F6135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5755E-2033-4FD6-96A9-1E937A94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16EC9-7370-4B77-A6CA-A11A9381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77F6-A498-4101-904D-ED96DF64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C7B4F-D746-4984-AFEA-451FE6CB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5FF80-5C4B-4E66-9FDD-19EDE22F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AA201-7C03-4C49-B3C7-8214FD9F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16143-BFF4-439B-A200-39FB8B2C3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CD25F-659A-4777-8DFE-7DB3B825E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20675-5AB0-459B-B3EE-A7F999AF0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D0787-948F-4A69-A876-56C157EE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618CF-D1FE-4787-A4DA-89B2853D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F3D59-6A6E-465D-BC59-F0618750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83FD5-F767-4532-BC6A-AC03B82F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C476-FF4A-42ED-921F-FA3E9DBD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0D608-9253-40EF-B03F-C933A2B2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BBF72-EB09-4A2A-8566-70BCEDC5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4378D-31DC-4123-A41B-B6118B89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DC1C2-BA97-4CB5-A3AA-CAC38582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1FAF0-DF53-42C0-8ABF-7A9F8661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69A53-3C76-4D6A-9A95-B5D6E41C6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76EEC-05A3-4173-A52D-117E0F9C8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FBA383-D8FB-48BD-A3CA-0F8C91C31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3C41D-A2A4-4CCC-9D4D-553D93EA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5D380-1FF6-4B00-A66C-09C8EFA4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706869-84B1-44D6-8271-FE29C84FEB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789ADC-FE75-47CE-AC94-40362AFBDC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637EFD-8CFF-4375-8345-3481C914091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60B55C-00DD-4FE8-B27A-E046ECDA17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538559-BEDC-4D11-899D-09C6C0C8C990}" type="slidenum">
              <a:rPr b="0" lang="en-US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04DDB7-30CE-4E8B-87FE-02F17DB1B9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450DCA-296A-43B4-A3DA-E532B34352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F0CF35-D5B3-4FCC-812C-022BDB2E56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1C44EA-DC76-47F8-AF5A-7A36FF69F5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bionet-skola.com/w/images/0/00/Ring_chromosome.gif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9.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НЕ АБЕРАЦИЈЕ ХРОМОЗОМА</a:t>
            </a:r>
            <a:endParaRPr b="0" lang="en-US" sz="44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Дупликација- парцијална тризомија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09480" indent="0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609480" indent="0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0000"/>
                </a:solidFill>
                <a:latin typeface="Arial"/>
                <a:ea typeface="Arial"/>
              </a:rPr>
              <a:t>1.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  <a:ea typeface="Arial"/>
              </a:rPr>
              <a:t>Тандем дупликација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Инсерцијом једне хроматиде у другу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Инсерцијом сегмента са једног ланца ДНК у други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Инсерцијом сегмента из хомологог хромозома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609480" indent="0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609480" indent="0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0000"/>
                </a:solidFill>
                <a:latin typeface="Arial"/>
                <a:ea typeface="Arial"/>
              </a:rPr>
              <a:t>2. Дупликација услед н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  <a:ea typeface="Arial"/>
              </a:rPr>
              <a:t>еправилн</a:t>
            </a:r>
            <a:r>
              <a:rPr b="0" lang="sr-RS" sz="2000" spc="-1" strike="noStrike">
                <a:solidFill>
                  <a:srgbClr val="ff0000"/>
                </a:solidFill>
                <a:latin typeface="Arial"/>
                <a:ea typeface="Arial"/>
              </a:rPr>
              <a:t>ог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  <a:ea typeface="Arial"/>
              </a:rPr>
              <a:t> кросинг-овер</a:t>
            </a:r>
            <a:r>
              <a:rPr b="0" lang="sr-RS" sz="20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609480" indent="0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609480" indent="0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Мање оштећују фенотип него делеције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609480" indent="0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               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Пр. </a:t>
            </a:r>
            <a:r>
              <a:rPr b="0" lang="sr-CS" sz="2000" spc="-1" strike="noStrike">
                <a:solidFill>
                  <a:srgbClr val="404040"/>
                </a:solidFill>
                <a:latin typeface="Arial"/>
                <a:ea typeface="Arial"/>
              </a:rPr>
              <a:t>г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ен за </a:t>
            </a:r>
            <a:r>
              <a:rPr b="0" lang="sr-Latn-CS" sz="1900" spc="-1" strike="noStrike">
                <a:solidFill>
                  <a:srgbClr val="404040"/>
                </a:solidFill>
                <a:latin typeface="Arial"/>
                <a:ea typeface="Arial"/>
              </a:rPr>
              <a:t>Hb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426" name="Picture 5" descr="chr-duplication"/>
          <p:cNvPicPr/>
          <p:nvPr/>
        </p:nvPicPr>
        <p:blipFill>
          <a:blip r:embed="rId1"/>
          <a:stretch/>
        </p:blipFill>
        <p:spPr>
          <a:xfrm>
            <a:off x="4572000" y="1905120"/>
            <a:ext cx="4456080" cy="2368440"/>
          </a:xfrm>
          <a:prstGeom prst="rect">
            <a:avLst/>
          </a:prstGeom>
          <a:ln w="9360">
            <a:solidFill>
              <a:srgbClr val="e4831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Arial"/>
                <a:ea typeface="Arial"/>
              </a:rPr>
              <a:t>Изохромозом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428" name="Picture 7" descr="chr-isochr"/>
          <p:cNvPicPr/>
          <p:nvPr/>
        </p:nvPicPr>
        <p:blipFill>
          <a:blip r:embed="rId1"/>
          <a:stretch/>
        </p:blipFill>
        <p:spPr>
          <a:xfrm>
            <a:off x="609480" y="2133720"/>
            <a:ext cx="3429000" cy="304776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5333760" y="1417320"/>
            <a:ext cx="3429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404040"/>
                </a:solidFill>
                <a:latin typeface="Arial"/>
                <a:ea typeface="Arial"/>
              </a:rPr>
              <a:t>Настаје услед погрешне попречне деобе хромозома, уместо уздужне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404040"/>
                </a:solidFill>
                <a:latin typeface="Arial"/>
                <a:ea typeface="Arial"/>
              </a:rPr>
              <a:t>Најчешћи је 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izo X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  <a:ea typeface="Arial"/>
              </a:rPr>
              <a:t>46, Xi(Xq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sr-CS" sz="3800" spc="-1" strike="noStrike">
                <a:solidFill>
                  <a:srgbClr val="000000"/>
                </a:solidFill>
                <a:latin typeface="Arial"/>
                <a:ea typeface="Arial"/>
              </a:rPr>
              <a:t>Дицентрични хромозоми</a:t>
            </a:r>
            <a:endParaRPr b="0" lang="en-US" sz="3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Ретко настају спонтано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, биолошки дозиметри озрачености организма</a:t>
            </a: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Настају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услед прекида и 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транслокацијом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хроматида два или више хромозома (хомологих или нехомологих)</a:t>
            </a: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Стабилни су у хромозомском сету</a:t>
            </a: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432" name="Picture 9" descr="dicentric_chromosome_3"/>
          <p:cNvPicPr/>
          <p:nvPr/>
        </p:nvPicPr>
        <p:blipFill>
          <a:blip r:embed="rId1"/>
          <a:stretch/>
        </p:blipFill>
        <p:spPr>
          <a:xfrm>
            <a:off x="1790640" y="3581280"/>
            <a:ext cx="5257800" cy="2381400"/>
          </a:xfrm>
          <a:prstGeom prst="rect">
            <a:avLst/>
          </a:prstGeom>
          <a:ln w="9360">
            <a:solidFill>
              <a:srgbClr val="e4831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Механизам настанка структурних хромозомских аберација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228600" y="18288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Arial"/>
                <a:ea typeface="Arial"/>
              </a:rPr>
              <a:t>Настају услед </a:t>
            </a:r>
            <a:r>
              <a:rPr b="0" lang="en-US" sz="1900" spc="-1" strike="noStrike">
                <a:solidFill>
                  <a:srgbClr val="ff0000"/>
                </a:solidFill>
                <a:latin typeface="Arial"/>
                <a:ea typeface="Arial"/>
              </a:rPr>
              <a:t>прекида</a:t>
            </a:r>
            <a:r>
              <a:rPr b="0" lang="en-US" sz="1900" spc="-1" strike="noStrike">
                <a:solidFill>
                  <a:srgbClr val="404040"/>
                </a:solidFill>
                <a:latin typeface="Arial"/>
                <a:ea typeface="Arial"/>
              </a:rPr>
              <a:t> у хромозому</a:t>
            </a:r>
            <a:r>
              <a:rPr b="0" lang="sr-RS" sz="1900" spc="-1" strike="noStrike">
                <a:solidFill>
                  <a:srgbClr val="404040"/>
                </a:solidFill>
                <a:latin typeface="Arial"/>
                <a:ea typeface="Arial"/>
              </a:rPr>
              <a:t>.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Arial"/>
                <a:ea typeface="Arial"/>
              </a:rPr>
              <a:t>Прекиди могу да буду: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Arial"/>
                <a:ea typeface="Arial"/>
              </a:rPr>
              <a:t>      </a:t>
            </a:r>
            <a:r>
              <a:rPr b="0" lang="en-US" sz="1900" spc="-1" strike="noStrike">
                <a:solidFill>
                  <a:srgbClr val="404040"/>
                </a:solidFill>
                <a:latin typeface="Arial"/>
                <a:ea typeface="Arial"/>
              </a:rPr>
              <a:t>- спонтани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Arial"/>
                <a:ea typeface="Arial"/>
              </a:rPr>
              <a:t>      </a:t>
            </a:r>
            <a:r>
              <a:rPr b="0" lang="en-US" sz="1900" spc="-1" strike="noStrike">
                <a:solidFill>
                  <a:srgbClr val="404040"/>
                </a:solidFill>
                <a:latin typeface="Arial"/>
                <a:ea typeface="Arial"/>
              </a:rPr>
              <a:t>- индуковани различитим мутагенима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Ако се прекид деси у </a:t>
            </a:r>
            <a:r>
              <a:rPr b="0" lang="sr-Latn-RS" sz="2200" spc="-1" strike="noStrike">
                <a:solidFill>
                  <a:srgbClr val="404040"/>
                </a:solidFill>
                <a:latin typeface="Arial"/>
                <a:ea typeface="Arial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1 фази ћелијског циклуса настаће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хромозомски прекид</a:t>
            </a:r>
            <a:r>
              <a:rPr b="0" i="1" lang="sr-RS" sz="22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Ако се прекид деси у току </a:t>
            </a:r>
            <a:r>
              <a:rPr b="0" lang="sr-Latn-RS" sz="2200" spc="-1" strike="noStrike">
                <a:solidFill>
                  <a:srgbClr val="404040"/>
                </a:solidFill>
                <a:latin typeface="Arial"/>
                <a:ea typeface="Arial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2 фазе ћел. циклуса настаће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хроматидни прекид</a:t>
            </a:r>
            <a:r>
              <a:rPr b="0" i="1" lang="sr-RS" sz="22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Ако прекид захвати обе хроматиде у истом локусу то је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изохроматидни прекид</a:t>
            </a:r>
            <a:r>
              <a:rPr b="0" i="1" lang="sr-RS" sz="22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Узрочници прекида: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6840" y="251424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-</a:t>
            </a:r>
            <a:r>
              <a:rPr b="0" lang="sr-RS" sz="2000" spc="-1" strike="noStrike">
                <a:solidFill>
                  <a:srgbClr val="ff0000"/>
                </a:solidFill>
                <a:latin typeface="Arial"/>
                <a:ea typeface="Arial"/>
              </a:rPr>
              <a:t>Физички</a:t>
            </a: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 агенси-р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азличити типови </a:t>
            </a: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зрачења (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јонизујуће</a:t>
            </a: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и </a:t>
            </a: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нејонизујуће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Хемијски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агенси –алкилирајући агенси, базни аналози, антибиотици, азонта једињења</a:t>
            </a: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..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Биолошки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агенси-вируси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Генет</a:t>
            </a:r>
            <a:r>
              <a:rPr b="0" lang="sr-RS" sz="2000" spc="-1" strike="noStrike">
                <a:solidFill>
                  <a:srgbClr val="ff0000"/>
                </a:solidFill>
                <a:latin typeface="Arial"/>
                <a:ea typeface="Arial"/>
              </a:rPr>
              <a:t>ички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узрoчници прекида – Фанкони анемија, Блумов синдром и др</a:t>
            </a: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.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који се одликују хромозомском нестабилношћу</a:t>
            </a: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, старење организма..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Arial"/>
                <a:ea typeface="Arial"/>
              </a:rPr>
              <a:t>Структурне аберације могу да буду: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интрахромозомске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– про</a:t>
            </a: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меном је захваћен само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јед</a:t>
            </a: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ан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хромозом</a:t>
            </a: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 (пр. пртенасти хромозом, делеција, инверзија  хромозома) </a:t>
            </a:r>
            <a:r>
              <a:rPr b="0" lang="sr-Latn-RS" sz="2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интерхромозомске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– када су променом обухваћена два или више хромозома</a:t>
            </a: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 (пр. транслокације хромозома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, </a:t>
            </a: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дицентричан хромозом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-</a:t>
            </a:r>
            <a:r>
              <a:rPr b="0" lang="sr-RS" sz="2000" spc="-1" strike="noStrike">
                <a:solidFill>
                  <a:srgbClr val="0070c0"/>
                </a:solidFill>
                <a:latin typeface="Arial"/>
                <a:ea typeface="Arial"/>
              </a:rPr>
              <a:t>балансиране</a:t>
            </a: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-укупна количина генетичког материјала у ћелији је непромењена-особе су мирни носиоци аберације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-</a:t>
            </a:r>
            <a:r>
              <a:rPr b="0" lang="sr-RS" sz="2000" spc="-1" strike="noStrike">
                <a:solidFill>
                  <a:srgbClr val="0070c0"/>
                </a:solidFill>
                <a:latin typeface="Arial"/>
                <a:ea typeface="Arial"/>
              </a:rPr>
              <a:t>небалансиране</a:t>
            </a: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 –укупна количина генетичког материјала у ћелији је промењена (повећана или смањена) –особе су аберантне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-</a:t>
            </a:r>
            <a:r>
              <a:rPr b="0" lang="sr-RS" sz="2000" spc="-1" strike="noStrike">
                <a:solidFill>
                  <a:srgbClr val="00b050"/>
                </a:solidFill>
                <a:latin typeface="Arial"/>
                <a:ea typeface="Arial"/>
              </a:rPr>
              <a:t>наслеђене, фамилијарне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404040"/>
                </a:solidFill>
                <a:latin typeface="Arial"/>
                <a:ea typeface="Arial"/>
              </a:rPr>
              <a:t>-</a:t>
            </a:r>
            <a:r>
              <a:rPr b="0" lang="sr-RS" sz="2000" spc="-1" strike="noStrike">
                <a:solidFill>
                  <a:srgbClr val="00b050"/>
                </a:solidFill>
                <a:latin typeface="Arial"/>
                <a:ea typeface="Arial"/>
              </a:rPr>
              <a:t>ненаслеђене, </a:t>
            </a:r>
            <a:r>
              <a:rPr b="0" i="1" lang="sr-Latn-RS" sz="2000" spc="-1" strike="noStrike">
                <a:solidFill>
                  <a:srgbClr val="00b050"/>
                </a:solidFill>
                <a:latin typeface="Arial"/>
                <a:ea typeface="Arial"/>
              </a:rPr>
              <a:t>de novo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Arial"/>
                <a:ea typeface="Arial"/>
              </a:rPr>
              <a:t>Врсте структурних хромо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sr-CS" sz="3800" spc="-1" strike="noStrike">
                <a:solidFill>
                  <a:srgbClr val="000000"/>
                </a:solidFill>
                <a:latin typeface="Arial"/>
                <a:ea typeface="Arial"/>
              </a:rPr>
              <a:t>омских аберација:</a:t>
            </a:r>
            <a:endParaRPr b="0" lang="en-US" sz="3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               </a:t>
            </a:r>
            <a:r>
              <a:rPr b="1" lang="sr-RS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-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Делеције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           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-Дупликације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           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-Инверзије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           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-Транслокације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 Light"/>
              </a:rPr>
              <a:t>Делеција-парцијална монозомија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0880" y="182844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Calibri"/>
              </a:rPr>
              <a:t>Чисте делеције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Calibri"/>
              </a:rPr>
              <a:t>Делеције у комбинацији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ff0000"/>
                </a:solidFill>
                <a:latin typeface="Calibri"/>
              </a:rPr>
              <a:t>са дупликацијом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Calibri"/>
              </a:rPr>
              <a:t>1.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Чисте</a:t>
            </a:r>
            <a:r>
              <a:rPr b="0" i="1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Arial"/>
              </a:rPr>
              <a:t>делеције-последица прекида у хромозому и губитка прекинутог дела</a:t>
            </a: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404040"/>
                </a:solidFill>
                <a:latin typeface="Arial"/>
                <a:ea typeface="Arial"/>
              </a:rPr>
              <a:t>- </a:t>
            </a:r>
            <a:r>
              <a:rPr b="1" i="1" lang="sr-Latn-CS" sz="2400" spc="-1" strike="noStrike">
                <a:solidFill>
                  <a:srgbClr val="0070c0"/>
                </a:solidFill>
                <a:latin typeface="Arial"/>
                <a:ea typeface="Arial"/>
              </a:rPr>
              <a:t>Терминалне</a:t>
            </a:r>
            <a:r>
              <a:rPr b="1" i="1" lang="sr-Latn-CS" sz="2400" spc="-1" strike="noStrike">
                <a:solidFill>
                  <a:srgbClr val="637052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637052"/>
                </a:solidFill>
                <a:latin typeface="Arial"/>
                <a:ea typeface="Arial"/>
              </a:rPr>
              <a:t>делеције</a:t>
            </a:r>
            <a:r>
              <a:rPr b="1" i="1" lang="sr-Latn-CS" sz="2400" spc="-1" strike="noStrike">
                <a:solidFill>
                  <a:srgbClr val="404040"/>
                </a:solidFill>
                <a:latin typeface="Arial"/>
                <a:ea typeface="Arial"/>
              </a:rPr>
              <a:t>-</a:t>
            </a: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Arial"/>
              </a:rPr>
              <a:t>последица</a:t>
            </a:r>
            <a:r>
              <a:rPr b="1" i="1" lang="sr-RS" sz="2400" spc="-1" strike="noStrike">
                <a:solidFill>
                  <a:srgbClr val="404040"/>
                </a:solidFill>
                <a:latin typeface="Arial"/>
                <a:ea typeface="Arial"/>
              </a:rPr>
              <a:t> једног</a:t>
            </a: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Arial"/>
              </a:rPr>
              <a:t> прекида </a:t>
            </a:r>
            <a:r>
              <a:rPr b="0" lang="sr-RS" sz="2400" spc="-1" strike="noStrike">
                <a:solidFill>
                  <a:srgbClr val="404040"/>
                </a:solidFill>
                <a:latin typeface="Arial"/>
                <a:ea typeface="Arial"/>
              </a:rPr>
              <a:t>који може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404040"/>
                </a:solidFill>
                <a:latin typeface="Arial"/>
                <a:ea typeface="Arial"/>
              </a:rPr>
              <a:t>да се деси на једној или </a:t>
            </a:r>
            <a:r>
              <a:rPr b="0" lang="sr-RS" sz="2400" spc="-1" strike="noStrike">
                <a:solidFill>
                  <a:srgbClr val="ff0000"/>
                </a:solidFill>
                <a:latin typeface="Arial"/>
                <a:ea typeface="Arial"/>
              </a:rPr>
              <a:t>обе теломере </a:t>
            </a:r>
            <a:r>
              <a:rPr b="0" lang="sr-RS" sz="2400" spc="-1" strike="noStrike">
                <a:solidFill>
                  <a:srgbClr val="404040"/>
                </a:solidFill>
                <a:latin typeface="Arial"/>
                <a:ea typeface="Arial"/>
              </a:rPr>
              <a:t>једног хромозома </a:t>
            </a: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Arial"/>
              </a:rPr>
              <a:t>(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ринг хромозом</a:t>
            </a: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404040"/>
                </a:solidFill>
                <a:latin typeface="Arial"/>
                <a:ea typeface="Arial"/>
              </a:rPr>
              <a:t>- </a:t>
            </a:r>
            <a:r>
              <a:rPr b="1" i="1" lang="sr-Latn-CS" sz="2400" spc="-1" strike="noStrike">
                <a:solidFill>
                  <a:srgbClr val="0070c0"/>
                </a:solidFill>
                <a:latin typeface="Arial"/>
                <a:ea typeface="Arial"/>
              </a:rPr>
              <a:t>Интерстицијалн</a:t>
            </a:r>
            <a:r>
              <a:rPr b="1" i="1" lang="sr-RS" sz="2400" spc="-1" strike="noStrike">
                <a:solidFill>
                  <a:srgbClr val="0070c0"/>
                </a:solidFill>
                <a:latin typeface="Arial"/>
                <a:ea typeface="Arial"/>
              </a:rPr>
              <a:t>е</a:t>
            </a:r>
            <a:r>
              <a:rPr b="1" i="1" lang="sr-Latn-CS" sz="24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637052"/>
                </a:solidFill>
                <a:latin typeface="Arial"/>
                <a:ea typeface="Arial"/>
              </a:rPr>
              <a:t>делециј</a:t>
            </a:r>
            <a:r>
              <a:rPr b="0" lang="sr-RS" sz="2400" spc="-1" strike="noStrike">
                <a:solidFill>
                  <a:srgbClr val="637052"/>
                </a:solidFill>
                <a:latin typeface="Arial"/>
                <a:ea typeface="Arial"/>
              </a:rPr>
              <a:t>е</a:t>
            </a: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Arial"/>
              </a:rPr>
              <a:t>-услед </a:t>
            </a:r>
            <a:r>
              <a:rPr b="1" i="1" lang="sr-Latn-CS" sz="2400" spc="-1" strike="noStrike">
                <a:solidFill>
                  <a:srgbClr val="404040"/>
                </a:solidFill>
                <a:latin typeface="Arial"/>
                <a:ea typeface="Arial"/>
              </a:rPr>
              <a:t>два </a:t>
            </a: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Arial"/>
              </a:rPr>
              <a:t>прекида, па се фрагмент између прекида губи (5</a:t>
            </a:r>
            <a:r>
              <a:rPr b="0" lang="sr-RS" sz="2400" spc="-1" strike="noStrike">
                <a:solidFill>
                  <a:srgbClr val="404040"/>
                </a:solidFill>
                <a:latin typeface="Arial"/>
                <a:ea typeface="Arial"/>
              </a:rPr>
              <a:t>р</a:t>
            </a: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Arial"/>
              </a:rPr>
              <a:t>-, 4</a:t>
            </a:r>
            <a:r>
              <a:rPr b="0" lang="sr-RS" sz="2400" spc="-1" strike="noStrike">
                <a:solidFill>
                  <a:srgbClr val="404040"/>
                </a:solidFill>
                <a:latin typeface="Arial"/>
                <a:ea typeface="Arial"/>
              </a:rPr>
              <a:t>р</a:t>
            </a: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Arial"/>
              </a:rPr>
              <a:t>-, 9</a:t>
            </a:r>
            <a:r>
              <a:rPr b="0" lang="sr-RS" sz="2400" spc="-1" strike="noStrike">
                <a:solidFill>
                  <a:srgbClr val="404040"/>
                </a:solidFill>
                <a:latin typeface="Arial"/>
                <a:ea typeface="Arial"/>
              </a:rPr>
              <a:t>р</a:t>
            </a: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Arial"/>
              </a:rPr>
              <a:t>-...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221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000000"/>
                </a:solidFill>
                <a:latin typeface="Arial"/>
                <a:ea typeface="Arial"/>
              </a:rPr>
              <a:t>Терминална делеција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693720" y="5243400"/>
            <a:ext cx="2895480" cy="91440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рстенасти-ринг хромоз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1" name="Picture 6" descr="Datoteka:Ring chromosome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440" y="2668680"/>
            <a:ext cx="2819520" cy="27432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"/>
          <p:cNvPicPr/>
          <p:nvPr/>
        </p:nvPicPr>
        <p:blipFill>
          <a:blip r:embed="rId3"/>
          <a:stretch/>
        </p:blipFill>
        <p:spPr>
          <a:xfrm>
            <a:off x="3976560" y="2036880"/>
            <a:ext cx="4761000" cy="32065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"/>
          <p:cNvPicPr/>
          <p:nvPr/>
        </p:nvPicPr>
        <p:blipFill>
          <a:blip r:embed="rId4"/>
          <a:stretch/>
        </p:blipFill>
        <p:spPr>
          <a:xfrm>
            <a:off x="5410080" y="5452920"/>
            <a:ext cx="2157480" cy="4939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"/>
          <p:cNvPicPr/>
          <p:nvPr/>
        </p:nvPicPr>
        <p:blipFill>
          <a:blip r:embed="rId5"/>
          <a:stretch/>
        </p:blipFill>
        <p:spPr>
          <a:xfrm>
            <a:off x="838080" y="1227240"/>
            <a:ext cx="2343240" cy="1736640"/>
          </a:xfrm>
          <a:prstGeom prst="rect">
            <a:avLst/>
          </a:prstGeom>
          <a:ln w="0">
            <a:noFill/>
          </a:ln>
        </p:spPr>
      </p:pic>
      <p:cxnSp>
        <p:nvCxnSpPr>
          <p:cNvPr id="415" name="Straight Arrow Connector 2"/>
          <p:cNvCxnSpPr/>
          <p:nvPr/>
        </p:nvCxnSpPr>
        <p:spPr>
          <a:xfrm flipH="1">
            <a:off x="8533800" y="2095200"/>
            <a:ext cx="417960" cy="267120"/>
          </a:xfrm>
          <a:prstGeom prst="straightConnector1">
            <a:avLst/>
          </a:prstGeom>
          <a:ln w="12600">
            <a:solidFill>
              <a:srgbClr val="e48312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3520" y="418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Arial"/>
                <a:ea typeface="Arial"/>
              </a:rPr>
              <a:t>Интерстицијална делеција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7" name="AutoShape 2"/>
          <p:cNvSpPr/>
          <p:nvPr/>
        </p:nvSpPr>
        <p:spPr>
          <a:xfrm>
            <a:off x="2438280" y="3048120"/>
            <a:ext cx="25527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AutoShape 2"/>
          <p:cNvSpPr/>
          <p:nvPr/>
        </p:nvSpPr>
        <p:spPr>
          <a:xfrm>
            <a:off x="152280" y="-609480"/>
            <a:ext cx="25527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9" name="Picture 4" descr="Datoteka:Delecija.jpg"/>
          <p:cNvPicPr/>
          <p:nvPr/>
        </p:nvPicPr>
        <p:blipFill>
          <a:blip r:embed="rId1"/>
          <a:stretch/>
        </p:blipFill>
        <p:spPr>
          <a:xfrm>
            <a:off x="1295280" y="2076480"/>
            <a:ext cx="56484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1920" y="409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2. Делеција у комбинацији са дупликацијом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-услед неједнаког (асиметричног) кросинг-овера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421" name="Picture 4" descr="unequal"/>
          <p:cNvPicPr/>
          <p:nvPr/>
        </p:nvPicPr>
        <p:blipFill>
          <a:blip r:embed="rId1"/>
          <a:stretch/>
        </p:blipFill>
        <p:spPr>
          <a:xfrm>
            <a:off x="1305000" y="2133720"/>
            <a:ext cx="2876400" cy="400032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5"/>
          <p:cNvSpPr/>
          <p:nvPr/>
        </p:nvSpPr>
        <p:spPr>
          <a:xfrm>
            <a:off x="4267080" y="4419720"/>
            <a:ext cx="2743200" cy="533160"/>
          </a:xfrm>
          <a:prstGeom prst="rect">
            <a:avLst/>
          </a:prstGeom>
          <a:solidFill>
            <a:srgbClr val="e48312"/>
          </a:solid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Хромозом са дупликациј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3352680" y="5138640"/>
            <a:ext cx="2895840" cy="381240"/>
          </a:xfrm>
          <a:prstGeom prst="rect">
            <a:avLst/>
          </a:prstGeom>
          <a:solidFill>
            <a:srgbClr val="e48312"/>
          </a:solid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Хромозом са делециј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3T06:43:23Z</dcterms:created>
  <dc:creator>prodekan 01</dc:creator>
  <dc:description/>
  <dc:language>en-US</dc:language>
  <cp:lastModifiedBy>Olivera Milošević-Đorđević</cp:lastModifiedBy>
  <dcterms:modified xsi:type="dcterms:W3CDTF">2021-01-25T09:28:51Z</dcterms:modified>
  <cp:revision>151</cp:revision>
  <dc:subject/>
  <dc:title>STRUKTURNE HROMOZOMSKE ABERACIJE</dc:title>
</cp:coreProperties>
</file>